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9558-B2F4-44D6-B9F8-9547D5382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8190-9389-4B2D-ACD6-9B705DF99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7FDB-F87C-4E5C-A6EA-F9E5C37B3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30B2-74C4-4769-B0FE-125967EFE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53EB-ABB5-4A21-BD99-2CCD95048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373C-878F-4E8B-B685-ABF315705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8C13-3A19-4D13-8DCA-24E14C951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15FC-89A1-4BFE-952B-DCD12E994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D85B-3BF3-4544-AE2C-F950DD034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99DF-D9ED-49EF-BA86-AEC8A8039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5814-4BC7-4B5B-8602-D47A1EBDC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791D-79D9-432D-BC30-1A2D3A9C7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FCA4-F0F4-487C-8FB2-51319750A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9B17-F62A-4538-AB4C-D0239D5DE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DA87-3637-44C2-B23B-772980694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6257-77E8-4A12-B4BD-45E417299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DD14-A6BB-4814-9BCF-B6BC7FF10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8BF3-C317-4884-A87C-629D71319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F9AA-5200-4774-A9A0-21D80DCF1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9D79-BBB7-4973-9C8E-EE17E5134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6417-1805-4619-ADCA-68629C8E1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AD77-C0FD-4755-9765-804EA8EAD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0C53-1835-43C0-9628-6030C9974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BE95-E44C-4E70-A1A1-41FB7B028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0560-2550-4F15-9F3C-BCA86E7D5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B2A4-EEF8-4033-8F96-86FA53ABB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4F64-7C84-4420-A3AE-FFEAE6104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9D68-C341-4191-9C92-B38BF1716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0A00-E22D-4B95-8DFC-872787362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2F16-121F-4773-8BC2-91922589B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2518-F48A-4633-B8FA-5B37D9F5C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074B-12D6-4BBB-9CB8-4A16894FC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E060-6F7F-423E-94C8-5B98F5BDA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ED94-CDB5-47D4-9CE6-58E4CBA71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09E2-F8BA-4A2E-AC22-8E33D2940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9762-663E-4797-91B3-B54B31D02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21C3-57C4-4584-8190-29DB4E433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6BC9-5A0B-4411-A624-284C93E8B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A424-20F4-4D76-9BE3-DEFDD8B85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6434-70FC-4181-8517-F79F91AD2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BA5B-A742-4DC3-8974-F13C893B6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4688-1656-412F-97BB-6B89D62A8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1300-F1DD-4EFB-9A23-30B3757C4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C884-504B-4696-B8F7-EC0708379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2EA4-5FA3-4562-8DE6-3AEE8FE36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FCC9-8F2F-45BE-9F67-50CA0FFAB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49E3-8D92-4A89-9E0F-15AF3CC84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153D-2388-4A08-8940-D6A9EA7D5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5D2F-9364-4052-80BF-E29EEF824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5900-5832-4D93-AE02-FD9F23FB8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A02C-9696-4673-9B49-DF7979618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2559-59DC-4F14-B784-CB250ADA8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F28-BD7E-4174-AFEF-E2888846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5D0F-9353-4952-89EC-19F89073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84048-E663-4ADD-B7BA-9D4C3D7A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3717D-4080-4289-9C3E-CCDBCE2D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BC7B2-73BA-4902-A385-D6CD4A57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84120-548A-46DD-9D7A-7BE6455A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2D54B-90CD-47F4-A2B6-6DB1B39B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29CC8-D16C-4540-9CAA-38D6BC47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C376B-64F7-4559-8889-E3568A34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17C2E-53F7-488E-ABE2-70D391D0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A21CD-C66D-422A-AFEF-3D7EDC1D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6CD05-3250-4F8A-9A4C-3DC300D1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59A9-CAE5-4D5E-A42F-9048E216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71E3C-83C1-4444-9B6B-2429050D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3091E-C6C9-405A-A287-686C55A7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543F0-F758-4565-9D89-D6C23547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16053-1B1A-4293-9B3A-A9044DE5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205BB-A1C0-42D9-851D-7154E709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53CDB-B5EF-461B-996B-6AD8D136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53672-7FC2-4742-A167-712EF794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9CF0D-7A0F-4463-B19B-23560EA2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C324B-3068-4DCF-8891-67CF3A36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52F66-228E-416E-8099-7F9B9F8A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0DC-B85F-4EDB-AD7E-C624A050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2DD06-7F5C-4089-8A85-EA64595D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943B9-1E95-4138-81A4-60C2F0CC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62E57-919B-4260-9EE6-93C264A4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AFC97-36AC-43A0-B134-06B1651F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C9F03-1B93-4E81-A1B4-E355F6D1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D641E-8C0C-4DD7-ABA1-2C9605B2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7D6FB-9A28-4B07-AF54-D4C39A56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0E3AB-C0EA-485F-B3EE-28A84E4B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0BB8B-C570-4672-8E93-6DEDFDEB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2E30B-23CC-4732-916E-CA9BF83E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AEB6-8CFE-4B2B-AA5B-9C0CE2B9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243C6-7615-4DA1-872D-0098163C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9E293-633E-41A5-ACB6-F8CAFB58C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77BB9-7CF4-45A9-814A-56A140EE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639A7-4C24-4410-9DF7-767AF486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690D3-1387-48A0-B0DE-8DE0306E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ACA29-0027-4440-8FC5-5C2AA2D1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70F8C-EA96-4747-98A8-AD7B7852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90F45-7932-45D4-8078-30BE045A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B59B0-FE30-4317-B248-E886C32B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D96D3-C27A-48EA-8661-92F0CD9E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7AE5-0454-4DB4-9AAC-C1AEFEB8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B0395-7806-4F76-9FB9-17E434A2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F0728-715E-42E2-8093-0C9E3D35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FABDD-2E92-419B-A924-9CC6CCF3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961DE-5645-465E-B89B-93AA978A3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0EBA5-E809-4AC5-BFA7-5612AA821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B97A-8FCF-43AB-8FF8-016BF31A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BEA1-9C58-4256-B5AF-5629FDB0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1813-6CD6-45B7-A316-B0C59583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32AD-1453-4099-AEEF-708B5A96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7E10-3F95-4B6E-939B-6CB19E9E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A360-8D4E-408D-8242-81A5AAC4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25AB-8680-4B87-8824-0C86077D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6700-B9B8-4C45-B6CF-0EE43A46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BB7A-D546-4747-9C5A-2D474105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FDCC-2E24-4571-948A-DDBEF162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D43D-59AE-4464-BD03-E0B0BFD9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B7B2A-C265-4874-B81C-5B858AC3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175A5-E19F-45A4-827A-18F06615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A05A5-3DBF-4CDB-8A3A-7AE3EA92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7E1C9-EEE4-4AF8-BD04-3035D047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15652-80BE-4775-9F0F-4C85112A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6F1A-DA1C-4BF2-A5F8-F9F33949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E9143-DEC4-40EB-9010-84BACF41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E6040-B581-4064-A78B-75EE0EF8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BC20D-29AE-4FD2-8CD8-C4F1423C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4846D-4416-49AF-915D-CB3E0041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0DFFF-FC3C-44ED-9415-809B46C6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535A5-FB07-4DCF-AD7A-19C5531E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47C81-C93D-4EFC-80EF-26A3E345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8AC05-9901-42C4-8742-100F6A74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9D76B-5D9F-4952-8896-B45C0545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20326-5F4A-4DAA-ABC8-E8C13219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E1D3-746C-4713-898F-97A5335E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DF7C3-00EC-4889-8750-0BE29499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157FB-6580-4C9C-B7C1-10688FB8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5F363-1CAE-4162-8790-7A13991C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5B66F-B1CB-4822-8C46-FFC8C01B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1D158-E700-44E7-B32C-17EB74BD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6B3E9-1E42-492A-BD3E-A635F0EE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E9305-6BD5-4255-87FE-74911DC9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A8264-4F16-4086-9042-A5746C83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00CEC-DAB5-4104-BC2F-E50EAE7D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154B5-FD1D-416C-B9EB-2B2FB1FF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9714-4229-4088-8EC5-F3C05412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7811C-F094-493F-8EC6-566DF18F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80D4C-084F-4FCD-A5E4-EC8576F0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7B941-3876-4C8B-B280-610FD598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E1853-C97D-4ED4-A138-5E3727D6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CB07F-EED7-407E-AD2E-C0F7CCE7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63CC3-1863-4CAF-986E-BEE8195A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6548E-BE5F-49F4-AA78-5D1E8C25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393E4-8527-4AD4-BCCD-A7C9B949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2701D-E384-4344-9CFF-35DA190C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70E45-2986-4CD8-AF0B-03970B6F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E9CA-BB3C-4439-B771-BA59F619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226D2-070A-4751-A3AB-1FA72785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14FFF-FCEF-4352-A7DE-2944AE2C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DF25C-216A-4F74-A4A8-B6B315EA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ACB78-D949-4A56-96D0-6443077F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61B23-892B-427A-9AA5-8EF93D38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40292-9233-4652-B37D-2208020C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44EC9-3260-4B9E-B401-09F6317C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6F7D8-D008-4DC9-9D1D-1670D60C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1A666-0FD1-4D62-B41B-7C976271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5FEB3-7FBD-4D21-AF4E-46E73CF6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7551-6C07-49E0-8554-21FA3466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96CD2-A2CC-4610-90B6-7E75C8E7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811A7-F646-4AE8-914C-5C48916C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F707D-5303-48F2-93CE-A393FB5B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21507-124C-406C-830D-3AB8DDD4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040DC-26F2-4E13-B923-BE791D96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B1750-286A-4E5F-A7F3-EDF4B236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DC1A5-6669-4BE3-AD22-211C3397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0371D-42A8-4833-BE3C-4E770758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58D8E-6960-48BB-8735-5A37BD43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2D213-3A8D-4E6D-A0B5-1A59CE15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DAE1-9DC5-4608-8F2D-FA34DCB5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6D77E-059B-47A7-992D-056D6E93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FF40E-7CA8-4995-9552-E9936BF3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6FC26-95D9-41BF-984A-857FFC12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119F7-9925-455E-A886-416B4A94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E0611-2307-4A71-B2D3-3EF1C50C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2F5F9-59CF-48F0-AF6E-8EF178B6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FD7FD-D250-4958-8C81-AFD23143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C6515-8D30-4DD5-97B7-DFA33438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88E95-DB3F-406E-92E7-E4BCF700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21B6C-27F2-4B4E-B1EA-BFBC1210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8AA4-BDDD-478C-8B2B-2E46708D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7DC8F-B22E-4298-A2F9-B76107FF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78BFA-7215-41B7-A72B-DC52ACD8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01F2C-C6FB-495A-A882-A4F3A8F7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87764-24E4-418A-81D4-EBA4D6EC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04563-E033-4A36-8AA9-3B4443BC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D2C4F-FD03-4B11-8FE7-CDF7E148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17228-6B12-4202-929D-7FFCDB08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75D39-8D37-47CF-81BD-33C3B949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75A6A-B2E1-4B7F-937E-739C35FC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F7713-0366-4815-983C-403E117B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72DB-6B92-434C-A7E0-AF4372DE8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3DBC-77C7-4AAA-A84C-67E3787E1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AF22-2D80-4A09-83D0-B8C0A1A13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5FAE-7C2E-4689-9B36-E5344AA5E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A343-0025-4B40-ABD4-880DB2509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9D74-3DAE-41F6-A1D7-277E2A789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B935-9CB5-41A4-A162-AF536D57D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4956-A3E6-44C2-BF74-B83B20B32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51BF-01BB-45FC-9C31-4627F25AC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52C6-8EB6-468F-B531-59E199C55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2F3B-54B9-4D63-A194-B9EBA719A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6751-843D-413A-B58A-FA6F06169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4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20.xml"/><Relationship Id="rId17" Type="http://schemas.openxmlformats.org/officeDocument/2006/relationships/slide" Target="slide20.xml"/><Relationship Id="rId18" Type="http://schemas.openxmlformats.org/officeDocument/2006/relationships/slide" Target="slide22.xml"/><Relationship Id="rId19" Type="http://schemas.openxmlformats.org/officeDocument/2006/relationships/slide" Target="slide22.xml"/><Relationship Id="rId20" Type="http://schemas.openxmlformats.org/officeDocument/2006/relationships/slide" Target="slide24.xml"/><Relationship Id="rId21" Type="http://schemas.openxmlformats.org/officeDocument/2006/relationships/slide" Target="slide24.xml"/><Relationship Id="rId22" Type="http://schemas.openxmlformats.org/officeDocument/2006/relationships/slide" Target="slide26.xml"/><Relationship Id="rId23" Type="http://schemas.openxmlformats.org/officeDocument/2006/relationships/slide" Target="slide26.xml"/><Relationship Id="rId24" Type="http://schemas.openxmlformats.org/officeDocument/2006/relationships/slide" Target="slide28.xml"/><Relationship Id="rId25" Type="http://schemas.openxmlformats.org/officeDocument/2006/relationships/slide" Target="slide28.xml"/><Relationship Id="rId26" Type="http://schemas.openxmlformats.org/officeDocument/2006/relationships/slide" Target="slide30.xml"/><Relationship Id="rId27" Type="http://schemas.openxmlformats.org/officeDocument/2006/relationships/slide" Target="slide30.xml"/><Relationship Id="rId28" Type="http://schemas.openxmlformats.org/officeDocument/2006/relationships/slide" Target="slide4.xml"/><Relationship Id="rId29" Type="http://schemas.openxmlformats.org/officeDocument/2006/relationships/slide" Target="slide32.xml"/><Relationship Id="rId30" Type="http://schemas.openxmlformats.org/officeDocument/2006/relationships/slide" Target="slide34.xml"/><Relationship Id="rId31" Type="http://schemas.openxmlformats.org/officeDocument/2006/relationships/slide" Target="slide36.xml"/><Relationship Id="rId32" Type="http://schemas.openxmlformats.org/officeDocument/2006/relationships/slide" Target="slide36.xml"/><Relationship Id="rId33" Type="http://schemas.openxmlformats.org/officeDocument/2006/relationships/slide" Target="slide38.xml"/><Relationship Id="rId34" Type="http://schemas.openxmlformats.org/officeDocument/2006/relationships/slide" Target="slide38.xml"/><Relationship Id="rId35" Type="http://schemas.openxmlformats.org/officeDocument/2006/relationships/slideLayout" Target="../slideLayouts/slideLayout85.xml"/><Relationship Id="rId3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90"/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91">
            <a:hlinkClick r:id="rId4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5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92">
            <a:hlinkClick r:id="rId6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7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1">
            <a:hlinkClick r:id="rId8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9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2">
            <a:hlinkClick r:id="rId10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1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03">
            <a:hlinkClick r:id="rId12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3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4">
            <a:hlinkClick r:id="rId14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5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5">
            <a:hlinkClick r:id="rId16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7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06">
            <a:hlinkClick r:id="rId18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9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07">
            <a:hlinkClick r:id="rId20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1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08">
            <a:hlinkClick r:id="rId22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3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09">
            <a:hlinkClick r:id="rId24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5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0">
            <a:hlinkClick r:id="rId26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7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1">
            <a:hlinkClick r:id="rId28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9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2">
            <a:hlinkClick r:id="rId30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13">
            <a:hlinkClick r:id="rId31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114">
            <a:hlinkClick r:id="rId33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4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AR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AN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OC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nd arc DI (note: not drawn to scal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5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7620120" cy="4440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179.38°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An inscribed angle that measures 21°intercepts an arc with this measurement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42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2193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nd &lt; GO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8610480" cy="5018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64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4479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G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4" descr=""/>
          <p:cNvPicPr/>
          <p:nvPr/>
        </p:nvPicPr>
        <p:blipFill>
          <a:blip r:embed="rId1"/>
          <a:stretch/>
        </p:blipFill>
        <p:spPr>
          <a:xfrm>
            <a:off x="152280" y="0"/>
            <a:ext cx="8686800" cy="506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53.13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nd the m&lt;ED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Picture 4" descr=""/>
          <p:cNvPicPr/>
          <p:nvPr/>
        </p:nvPicPr>
        <p:blipFill>
          <a:blip r:embed="rId1"/>
          <a:stretch/>
        </p:blipFill>
        <p:spPr>
          <a:xfrm>
            <a:off x="685800" y="0"/>
            <a:ext cx="5867280" cy="480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20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9144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nd the measure of arc AG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Picture 6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458200" cy="4577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1143000" y="4800600"/>
            <a:ext cx="6400800" cy="175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&lt;DO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Picture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00200" y="0"/>
            <a:ext cx="5105520" cy="5016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80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9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nd the length of side N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7315200" cy="413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√7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1932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nd the radius of the circl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Picture 4" descr="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4091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√10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nd the hypotenuse of the triangl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6934320" cy="3918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hat is 15.86 cm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nd the diame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4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010640" cy="396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16.74 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63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18288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nd the diame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05560" cy="4692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6 uni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a line contains the center of a circle and the midpoint of the chord, then the line is considered th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a PERPENDICULAR BISECTO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theorem proves that chord QR is congruent to chord 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0"/>
            <a:ext cx="4419360" cy="4419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441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i="1" lang="en-US" sz="8800" spc="-1" strike="noStrike">
                <a:solidFill>
                  <a:srgbClr val="000000"/>
                </a:solidFill>
                <a:latin typeface="Times New Roman"/>
              </a:rPr>
              <a:t>SAS congruenc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33160" y="42670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nd the length of O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1"/>
          <a:stretch/>
        </p:blipFill>
        <p:spPr>
          <a:xfrm>
            <a:off x="609480" y="0"/>
            <a:ext cx="7162920" cy="4540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7 fee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9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175248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is the length of MP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Picture 4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162920" cy="4741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13.42 fee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9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06668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measure of arc AG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Picture 8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4657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90360" y="472428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length of chord Q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Picture 4" descr=""/>
          <p:cNvPicPr/>
          <p:nvPr/>
        </p:nvPicPr>
        <p:blipFill>
          <a:blip r:embed="rId1"/>
          <a:stretch/>
        </p:blipFill>
        <p:spPr>
          <a:xfrm>
            <a:off x="990720" y="0"/>
            <a:ext cx="7315200" cy="484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hat is 57.13 fee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 line segment from the center of the circle to any point on the circle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a RADIU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An angle whose vertex is at the center of the circle and whose sides are radi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a CENTRAL ANGL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An angle whose vertex is on the circle and whose sides are chords of the circl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1143000" y="52574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an INSCRIBED ANGLE</a:t>
            </a:r>
            <a:br>
              <a:rPr sz="7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 portion of the circumfere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an AR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66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80520" y="10663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 set of all points in a plane that are equidistant from a fixed point, which is called the cent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a CIRCL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44956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nd arc 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Picture 3" descr=""/>
          <p:cNvPicPr/>
          <p:nvPr/>
        </p:nvPicPr>
        <p:blipFill>
          <a:blip r:embed="rId1"/>
          <a:stretch/>
        </p:blipFill>
        <p:spPr>
          <a:xfrm>
            <a:off x="304920" y="0"/>
            <a:ext cx="6933960" cy="4781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133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7023240" y="5118120"/>
            <a:ext cx="1193760" cy="11937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19810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nd arc D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943600" cy="441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136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21:52:46Z</dcterms:created>
  <dc:creator>Grant County High School</dc:creator>
  <dc:description/>
  <dc:language>en-US</dc:language>
  <cp:lastModifiedBy>Becca Rapoport</cp:lastModifiedBy>
  <cp:lastPrinted>2017-04-26T11:48:06Z</cp:lastPrinted>
  <dcterms:modified xsi:type="dcterms:W3CDTF">2017-04-26T18:50:27Z</dcterms:modified>
  <cp:revision>145</cp:revision>
  <dc:subject/>
  <dc:title>No Slide Title</dc:title>
</cp:coreProperties>
</file>